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03F-AF50-4599-915B-9C04DFFA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9F3-D152-44AC-8BA1-630884BC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127-0583-4E0B-A80A-4A929F46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41D-98A1-42CC-A487-4BBEA42D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703-7D4D-46EF-838A-A8B29E3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7DA-F2D3-462D-B725-BC212E0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3AB-0A78-4BA6-81B9-1CB52FC4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C62-40CC-4E8C-B953-EDC694E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77C-ACA5-473F-AB23-101DC5A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654-CE2F-4D49-90C2-D606232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8F6-E33F-4B06-9F35-4710F4F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412-9BA5-4A16-B38B-93A03F2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CC0-1FC3-4602-8846-3FA2766CC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8,760 Hours From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e’ll look back on this strategic night and say something like thi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8,760 Hours From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’ll be smiling if you decide now to pay some PERSONAL PRIC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e a part o what the Lord is about to do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By faith, Moses, when he grew up, refused the privileges of the Egyptian royal house that he could have had.  He chose a hard life with God’s people rather than an opportunity to live a soft life of sin and pleasure with the enemies of God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ses valued suffering i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Messiah’s camp to be far greater than all the Egyptian wealth that he walked away from.  He was anticipating the day of divine payoff with God in Heaven.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brews 11:24-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8,760 Hours From Now,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some of you are willing to let this year “cost you,” we’ll look back and say something like thi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’re going to live this next year either as an excited part of the TEAM around here or as 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ORED, NEGATIVE SPECTAT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 may think that what you have to give is SMALL.  But from God’s perspective, that small bit can be the GOLDEN LINK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 a chain of mirac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In 2 Kings 5, there is a great true story about a general named Naaman who had leprosy.  A young teenage servant girl in Naaman’s house told her mistress that one of Jehovah’s prophets could heal her master if he would ask for his help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Remember the little boy i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atthew 14:17 who ha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ve loaves of bread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nd two small fish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nd then he gave 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mall acts of OBEDIENCE this next year will unlock some of Heaven’s greatest miracles around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esus is about to begin a spiritual revolution in this youth and young adult ministry, and we want YOU to be a part of 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re there is no visio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eople perish.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verbs 29:18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King James Ver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ithout prophetic vision people run wild!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verbs 29:18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God’s World Transla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re there is no vision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eople cast off restraint.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verbs 29:18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American Standard Vers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8,760 Hours From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ome POTENTIAL LEADERS in this room will look back and sa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UPCOMING DATES</a:t>
            </a:r>
            <a:br>
              <a:rPr sz="3600"/>
            </a:b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TO REMEMB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8,760 Hours From Now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 will be living the realit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of your choices, eith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PIRITUAL REVOLUTION o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ONIZING REGR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at’s it going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o be for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past has been AMAZING!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nd now, because of all the prayer and foundation that has been laid, Jesus is going to write an exciting new chapter for us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help write it with 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 submit to you that if a man hasn’t discovered something that he will DIE FOR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e isn’t fit TO LIVE.”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8d688"/>
                </a:solidFill>
                <a:latin typeface="Arial Black"/>
              </a:rPr>
              <a:t>- Martin Luther 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a vision does not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st you SOMETHING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t is just a DAYDREAM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generation that the world WILL NOT CHANGE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s the generation that will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HANGE THE WORL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th was not created for FUN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Youth was create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r HEROISM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church that will impact the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 Black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century is the church whos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REAMS ARE BIGG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AN ITS MEMORIES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468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Never doubt that a small group of thinking, committed people can change the world.  Indeed, it is the only thing that EVER HAS.”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- Margaret Mea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21:47:59Z</dcterms:created>
  <dc:creator>WIN7</dc:creator>
  <dc:description/>
  <dc:language>en-US</dc:language>
  <cp:lastModifiedBy>Chris Infalt</cp:lastModifiedBy>
  <dcterms:modified xsi:type="dcterms:W3CDTF">2021-12-29T20:34:24Z</dcterms:modified>
  <cp:revision>11</cp:revision>
  <dc:subject/>
  <dc:title>PowerPoint Presentation</dc:title>
</cp:coreProperties>
</file>